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41659-794D-4881-B9E6-1E1D72A154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2F0FA-54C2-4743-BB50-D5C9F186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D9165-EEA5-46E3-B4A2-3AB7B78A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268DF-B091-40EF-9E2B-4231EC64A2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52A81-67CB-4B47-8498-79A3A174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F8B75-3AD5-4D90-A711-FAB964F7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F3FD4-9BF6-4111-8804-D2B251AA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B26A6-755D-4F4E-8480-8F51E7EC8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8B667-E1AE-4BE0-B63C-D12305974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0E105-97D5-44D4-A6F2-DBCCB879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8466D-513E-458C-9D51-9DD641DC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CC947-D995-469D-AB9D-56F0B8DC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t-E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137524-A530-4672-9921-911012C4A81B}" type="slidenum">
              <a:rPr b="0" lang="et-EE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futurechips.org/tips-for-power-coders/writing-optimizing-parallel-programs-complete.html" TargetMode="External"/><Relationship Id="rId2" Type="http://schemas.openxmlformats.org/officeDocument/2006/relationships/hyperlink" Target="http://kernel.org/pub/linux/kernel/people/paulmck/perfbook/perfbook.2012.08.08a.pdf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Locking: small intr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Calibri"/>
                <a:ea typeface="DejaVu Sans"/>
              </a:rPr>
              <a:t>Parallel processes: what can go 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Financial transaction example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Transfer 100 EUR from A to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Let initially A=1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We do A=A-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While you do this, second process will do A=A+2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At the end wha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Calibri"/>
                <a:ea typeface="DejaVu Sans"/>
              </a:rPr>
              <a:t>Financial transaction example 2 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Initially 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process 1:    store 1000+200=1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process 2:                                                 store 1200-100=1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Finally 1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Calibri"/>
                <a:ea typeface="DejaVu Sans"/>
              </a:rPr>
              <a:t>Financial transaction example 2 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Initially 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process 1:    store 1000+200=1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process 2:                     store 1000-100=9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Finally 9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Calibri"/>
                <a:ea typeface="DejaVu Sans"/>
              </a:rPr>
              <a:t>Financial transaction example 2 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Initially 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process 1:               store 1000+200=1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process 2:    store 1000-100=9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Finally 1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Calibri"/>
                <a:ea typeface="DejaVu Sans"/>
              </a:rPr>
              <a:t>Example 2 summa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Initially 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Two possibly parallel 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Finally either 900, 1100 or 1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Calibri"/>
                <a:ea typeface="DejaVu Sans"/>
              </a:rPr>
              <a:t>Parallel processes: what can go 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Linked list example: two nodes removed in parall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2241720" y="2720880"/>
            <a:ext cx="4660560" cy="33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Calibri"/>
                <a:ea typeface="DejaVu Sans"/>
              </a:rPr>
              <a:t>Parallel processes: what can go 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Ticket sales example: naive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User X selects a place nr 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User Y also selects a place nr 15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User X pays and gets a ticket 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User Y pays and gets a ticket 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Calibri"/>
                <a:ea typeface="DejaVu Sans"/>
              </a:rPr>
              <a:t>Parallel processes: what can go 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Ticket sales example: starvation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User X selects a place nr 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Nobody is allowed to select place 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User X does not pay or check 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How can we get the place 15 to be sold to another user 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Trans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Transaction is an atomic block of opera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a.withdraw(100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b.deposit(100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c.withdraw(200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b.deposit(200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Transact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transaction is eith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ccessful (it commits)</a:t>
            </a: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objects are saved in permanent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it is aborted by the client or the server</a:t>
            </a: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 a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ll temporary effects </a:t>
            </a: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are ma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isible to other</a:t>
            </a: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Topics tod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2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Why loc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Quick intro to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Controlling paralle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Brief excursion to interprocess com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Brief excursion to shar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Lock types and Spin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Spinlock with que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Success c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BEGIN_TRANS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reserve Tallinn -&gt; Helsinki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reserve Helsinki -&gt; JFK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reserve JFK -&gt; Buenos Ai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COMMIT_TRANS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Failure c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BEGIN_TRANS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reserve Tallinn -&gt; Helsinki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reserve Helsinki -&gt; JFK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reserve JFK -&gt; Buenos Aires FULL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ABORT_TRANS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A.C.I.D transaction principl</a:t>
            </a: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tomi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the transaction is considered to be one thing,</a:t>
            </a: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</a:t>
            </a: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ough it may be made of up many different pa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“invariants” that held before transaction must</a:t>
            </a: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hold after its successful exec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solat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if multiple transactions run at the same time, they</a:t>
            </a: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t not interfere with each other. To the system, it should</a:t>
            </a: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ok like the two (or more) transactions are executed</a:t>
            </a: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quentially (i.e., that they ar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erializab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urab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Once a transaction commits, any changes 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perman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Two armies probl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two generals must have their armies attack the city at the same time in order to succeed. They must thus communicate with each other to decide on a time to attack and to agree to attack at that time, and each general must know that the other general knows that they have agreed to the attack pla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2" descr="http://upload.wikimedia.org/wikipedia/commons/thumb/c/c9/2-generals.svg/220px-2-generals.svg.png"/>
          <p:cNvPicPr/>
          <p:nvPr/>
        </p:nvPicPr>
        <p:blipFill>
          <a:blip r:embed="rId1"/>
          <a:stretch/>
        </p:blipFill>
        <p:spPr>
          <a:xfrm>
            <a:off x="1066680" y="3505320"/>
            <a:ext cx="6400800" cy="197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Why lock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Always when several processes use the same resource concurrentl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Memory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Database fie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Database index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Typical/practical situ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457200" y="1600200"/>
            <a:ext cx="82296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Say we have N web apps on the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Typical shared resourc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Database. Has transactions: built-in lock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Files. No built-in lock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Data structures in memory? No built-in lock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Basic locking ide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457200" y="1600200"/>
            <a:ext cx="822960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Global read-write 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Arbitrary many processes can read at the same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If a process X writes, then no other process may read or wr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Alternativ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Coordinating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lock-free algorith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Write a copy of new data, new index page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Finally do an atomic “swap/switch” to new co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Datab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Common: multiprocess databases (mysql, postgresql, oracle jne 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“</a:t>
            </a: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Library” databases (sqlite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Locking different than in ”large“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Parallelism typ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Memor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Processes: shared not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Threads: shared everyt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Comb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Local process memory + common shared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Interprocess com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Sockets (like net: sockets connected to por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Shared memory bl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Both methods used by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First, some pictures from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U. Drepp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Good to know about shared mem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int p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p=10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a[10]=2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foo(&amp;p,a) gets address of p and can do *p =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If p is in shared memory, th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Each foo(&amp;p) gets (typically) different address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Good to know about shared m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457200" y="1600200"/>
            <a:ext cx="8229600" cy="51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Physical memory is always mapped to actual addresses by the op system: physical memory pages are mapped differently each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Allocate 1M of shared m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Get block at address, say 5 000 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Another process “attaches” to memory, gets address 8 0000 0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General term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mute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semaph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Actual api-s in op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Pthrea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Opsystem support for lock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Lock prohibits other processes: only a single process can r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Normally it is OK to read in parallel: no need to prohibit others from re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We should use a lock before we start to </a:t>
            </a:r>
            <a:r>
              <a:rPr b="1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change (write)</a:t>
            </a: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 a mutually used variable: set a </a:t>
            </a:r>
            <a:r>
              <a:rPr b="1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write lock</a:t>
            </a: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 which prohibits both parallel writing and re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We should set a </a:t>
            </a:r>
            <a:r>
              <a:rPr b="1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read lock </a:t>
            </a: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before we start reading: this allows parallel reading but prohibits parallel wr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Locking for reading and wri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Lock variable 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457200" y="1600200"/>
            <a:ext cx="8229600" cy="50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Let us take a variable L as 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IF a process P wants to read it shoul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Check that L &gt;= 0 (nobody is writ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++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Finally do --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IF a process P wants to write it shoul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Check that L is 0 (nobody is reading/writ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Set L to -1 (i am writ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Finally set L to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Cache and lo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Lock variable should be full cache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Cache line is typically 64 or 128 b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Spinlock ide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57200" y="1600200"/>
            <a:ext cx="8229600" cy="46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Want to read but somebody is wri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Check thatL&gt;=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What to do when L=-1?? (somebody writ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Pa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Loop until L&gt;=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After a short while do a pause yielding control to schedu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Increase each time the pa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Spinlock que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457200" y="1600200"/>
            <a:ext cx="8229600" cy="58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Queue in shared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Each process has its own 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Implement as a 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Element: lock and offset to n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R     0     R     W     R     R    R   R   W  R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2 cores, 2 processors : works f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Original article: 128 proces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If one more process than core, then ca 1000 times performance lo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Problem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457200" y="1600200"/>
            <a:ext cx="822960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Write star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Somebody always reading, cannot ever wr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Pause X microsec after every 100 reading: no reading allowed (roughly what sqlite does: regularly give priority to writ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Waiting writer sets a fl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After 100 steps check flag? If flag, no readers started during X micros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Make our own que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Lin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457200" y="1600200"/>
            <a:ext cx="822960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 u="sng">
                <a:solidFill>
                  <a:srgbClr val="ccccff"/>
                </a:solidFill>
                <a:uFillTx/>
                <a:latin typeface="Calibri"/>
                <a:ea typeface="DejaVu Sans"/>
                <a:hlinkClick r:id="rId1"/>
              </a:rPr>
              <a:t>http://www.futurechips.org/tips-for-power-coders/writing-optimizing-parallel-programs-complete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http://locklessinc.com/articles/locks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http://www.akkadia.org/drepper/summit2010-parallel.pd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 u="sng">
                <a:solidFill>
                  <a:srgbClr val="ccccff"/>
                </a:solidFill>
                <a:uFillTx/>
                <a:latin typeface="Calibri"/>
                <a:ea typeface="DejaVu Sans"/>
                <a:hlinkClick r:id="rId2"/>
              </a:rPr>
              <a:t>http://kernel.org/pub/linux/kernel/people/paulmck/perfbook/perfbook.2012.08.08a.pd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https://computing.llnl.gov/tutorials/pthreads/#Over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3143160" y="1952640"/>
            <a:ext cx="285768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143160" y="1952640"/>
            <a:ext cx="285768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143160" y="1952640"/>
            <a:ext cx="285768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143160" y="1971720"/>
            <a:ext cx="2857680" cy="29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143160" y="1971720"/>
            <a:ext cx="2857680" cy="29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Calibri"/>
                <a:ea typeface="DejaVu Sans"/>
              </a:rPr>
              <a:t>Parallel processes: what can go 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Financial transaction example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Transfer 100 EUR from A to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A=A-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B=B+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What if, for some reason, one of these fails? Accounts will be inconsistent: money disappears or appears from now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3:19:21Z</dcterms:created>
  <dc:creator>tanel</dc:creator>
  <dc:description/>
  <dc:language>en-US</dc:language>
  <cp:lastModifiedBy>Tanel</cp:lastModifiedBy>
  <dcterms:modified xsi:type="dcterms:W3CDTF">2012-11-09T07:34:39Z</dcterms:modified>
  <cp:revision>51</cp:revision>
  <dc:subject/>
  <dc:title>Locking: small intro</dc:title>
</cp:coreProperties>
</file>